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. Типови хемијских веза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ковалентне везе. Конјуговани 1,3-диенски систем-бутадиен. Ароматични систем- бенз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постоји хемијска веза између два или више атома када су силе које дејствују између ових атома у тој мери јаке да се посматрана група понаша као независни атомски агрег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250920" y="1197000"/>
          <a:ext cx="86979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6979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ight Brace 4"/>
          <p:cNvSpPr/>
          <p:nvPr/>
        </p:nvSpPr>
        <p:spPr>
          <a:xfrm rot="5400000">
            <a:off x="6048720" y="1232640"/>
            <a:ext cx="503280" cy="3600360"/>
          </a:xfrm>
          <a:custGeom>
            <a:avLst/>
            <a:gdLst>
              <a:gd name="textAreaLeft" fmla="*/ 0 w 503280"/>
              <a:gd name="textAreaRight" fmla="*/ 181800 w 503280"/>
              <a:gd name="textAreaTop" fmla="*/ 12960 h 3600360"/>
              <a:gd name="textAreaBottom" fmla="*/ 358740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6"/>
                  <a:pt x="10800" y="252"/>
                </a:cubicBezTo>
                <a:lnTo>
                  <a:pt x="10800" y="10548"/>
                </a:lnTo>
                <a:cubicBezTo>
                  <a:pt x="10800" y="10674"/>
                  <a:pt x="16200" y="10800"/>
                  <a:pt x="21600" y="10800"/>
                </a:cubicBezTo>
                <a:cubicBezTo>
                  <a:pt x="16200" y="10800"/>
                  <a:pt x="10800" y="10926"/>
                  <a:pt x="10800" y="11052"/>
                </a:cubicBezTo>
                <a:lnTo>
                  <a:pt x="10800" y="21348"/>
                </a:lnTo>
                <a:cubicBezTo>
                  <a:pt x="10800" y="2147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Brace 5"/>
          <p:cNvSpPr/>
          <p:nvPr/>
        </p:nvSpPr>
        <p:spPr>
          <a:xfrm rot="5400000">
            <a:off x="6587640" y="3716280"/>
            <a:ext cx="504720" cy="410508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4105080"/>
              <a:gd name="textAreaBottom" fmla="*/ 409212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16200" y="10800"/>
                  <a:pt x="21600" y="10800"/>
                </a:cubicBezTo>
                <a:cubicBezTo>
                  <a:pt x="162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303880" y="32130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 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800680" y="59500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18446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ија валентне вез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бјашњава ковалентну везу преклапањем чистих или хибридизованих атомских орбитала, при чему настају молекулске орбит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екулско-орбитална тео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ви електрони запоседају молекулске орбитале (кој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адају молекулу као целини) по истом принципу како се попуњавај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ске орбит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wis-ово октетно прави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2"/>
          <p:cNvGraphicFramePr/>
          <p:nvPr/>
        </p:nvGraphicFramePr>
        <p:xfrm>
          <a:off x="826920" y="2073240"/>
          <a:ext cx="73454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073240"/>
                    <a:ext cx="7345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324000" y="1773360"/>
          <a:ext cx="849924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4992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е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оно прекла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539640" y="2924280"/>
          <a:ext cx="802008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24280"/>
                    <a:ext cx="802008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е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но прекла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900000" y="2924280"/>
          <a:ext cx="5400720" cy="33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54007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780000" y="2060640"/>
          <a:ext cx="20476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060640"/>
                    <a:ext cx="2047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3"/>
          <p:cNvGraphicFramePr/>
          <p:nvPr/>
        </p:nvGraphicFramePr>
        <p:xfrm>
          <a:off x="3780000" y="3860640"/>
          <a:ext cx="2265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3860640"/>
                    <a:ext cx="2265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6"/>
          <p:cNvSpPr/>
          <p:nvPr/>
        </p:nvSpPr>
        <p:spPr>
          <a:xfrm>
            <a:off x="3928680" y="3500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5439600" y="34815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8"/>
          <p:cNvGraphicFramePr/>
          <p:nvPr/>
        </p:nvGraphicFramePr>
        <p:xfrm>
          <a:off x="4427640" y="3645000"/>
          <a:ext cx="1093680" cy="28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3645000"/>
                    <a:ext cx="10936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лектронегатив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ња атома да привлаче елeктро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чког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електронегативност нек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—F поларна     4 - 2,1 = 1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—Н поларна    3,5 - 2,1 = 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—О поларна    3,5 - 2,5 = 1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—H неполарна  2,5 - 2,1 = 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3860640"/>
          <a:ext cx="7345440" cy="115272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  <a:gridCol w="612720"/>
                <a:gridCol w="610920"/>
                <a:gridCol w="613080"/>
                <a:gridCol w="612720"/>
                <a:gridCol w="611280"/>
                <a:gridCol w="6127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ив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1979640" y="2349360"/>
          <a:ext cx="547200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349360"/>
                    <a:ext cx="54720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Box 5"/>
          <p:cNvSpPr/>
          <p:nvPr/>
        </p:nvSpPr>
        <p:spPr>
          <a:xfrm>
            <a:off x="4797720" y="6308640"/>
            <a:ext cx="30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минсребро(I)-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и елемената су састављени од позитивно наелектрисаног језгра, које у врло малој запремини садржи скоро сву масу атома, и од негативно наелектрисаних делића, електрона (јединице негативне електричне шарже), који су распоређени око језгра у простору величине атома. И само језгро је сложеног састава и састоји се од позитивних честица, протона (јединице позитивне шарже), и неутралних делића, неутрона (без електричне шарж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(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N (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N (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N 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6804000" y="5373720"/>
          <a:ext cx="1513080" cy="13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5373720"/>
                    <a:ext cx="151308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и тестиса, јајника, врата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е болести крви и неки облиц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а пл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3"/>
          <p:cNvGraphicFramePr/>
          <p:nvPr/>
        </p:nvGraphicFramePr>
        <p:xfrm>
          <a:off x="1042920" y="1628640"/>
          <a:ext cx="651852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651852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Box 5"/>
          <p:cNvSpPr/>
          <p:nvPr/>
        </p:nvSpPr>
        <p:spPr>
          <a:xfrm>
            <a:off x="1280520" y="3141720"/>
            <a:ext cx="19328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635280" y="328464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латина →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АКТ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4"/>
          <p:cNvGraphicFramePr/>
          <p:nvPr/>
        </p:nvGraphicFramePr>
        <p:xfrm>
          <a:off x="2484360" y="1557360"/>
          <a:ext cx="449892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4989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Box 5"/>
          <p:cNvSpPr/>
          <p:nvPr/>
        </p:nvSpPr>
        <p:spPr>
          <a:xfrm>
            <a:off x="1915920" y="530064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мут-субцитратни јединични молек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молекулске ве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ачне (van der Waals-ове) си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статичке приро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пол-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он-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пол-индуковани 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перзионе (London-ове) с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јон-ј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—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—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—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—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а веза није права хемијска вез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ight Brace 3"/>
          <p:cNvSpPr/>
          <p:nvPr/>
        </p:nvSpPr>
        <p:spPr>
          <a:xfrm>
            <a:off x="1476360" y="2349360"/>
            <a:ext cx="287280" cy="10083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008360"/>
              <a:gd name="textAreaBottom" fmla="*/ 100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3"/>
                </a:cubicBezTo>
                <a:lnTo>
                  <a:pt x="10800" y="10287"/>
                </a:lnTo>
                <a:cubicBezTo>
                  <a:pt x="10800" y="10544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3"/>
                </a:cubicBezTo>
                <a:lnTo>
                  <a:pt x="10800" y="21087"/>
                </a:lnTo>
                <a:cubicBezTo>
                  <a:pt x="10800" y="213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ight Brace 4"/>
          <p:cNvSpPr/>
          <p:nvPr/>
        </p:nvSpPr>
        <p:spPr>
          <a:xfrm>
            <a:off x="1476360" y="3716280"/>
            <a:ext cx="287280" cy="10080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008000"/>
              <a:gd name="textAreaBottom" fmla="*/ 100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7"/>
                  <a:pt x="10800" y="513"/>
                </a:cubicBezTo>
                <a:lnTo>
                  <a:pt x="10800" y="10287"/>
                </a:lnTo>
                <a:cubicBezTo>
                  <a:pt x="10800" y="10544"/>
                  <a:pt x="16200" y="10800"/>
                  <a:pt x="21600" y="10800"/>
                </a:cubicBezTo>
                <a:cubicBezTo>
                  <a:pt x="16200" y="10800"/>
                  <a:pt x="10800" y="11057"/>
                  <a:pt x="10800" y="11313"/>
                </a:cubicBezTo>
                <a:lnTo>
                  <a:pt x="10800" y="21087"/>
                </a:lnTo>
                <a:cubicBezTo>
                  <a:pt x="10800" y="213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87200" y="26370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а водоничн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1990800" y="39337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водонична 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8360" y="2276640"/>
          <a:ext cx="3240000" cy="3816360"/>
        </p:xfrm>
        <a:graphic>
          <a:graphicData uri="http://schemas.openxmlformats.org/drawingml/2006/table">
            <a:tbl>
              <a:tblPr/>
              <a:tblGrid>
                <a:gridCol w="1587600"/>
                <a:gridCol w="165240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ергија (</a:t>
                      </a:r>
                      <a:r>
                        <a:rPr b="1" lang="sr-Latn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/mol</a:t>
                      </a: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—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90" name="TextBox 5"/>
          <p:cNvSpPr/>
          <p:nvPr/>
        </p:nvSpPr>
        <p:spPr>
          <a:xfrm>
            <a:off x="4643280" y="3284640"/>
            <a:ext cx="39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водоничне вез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—H    :F   155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870880" y="4724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4"/>
          <p:cNvSpPr/>
          <p:nvPr/>
        </p:nvSpPr>
        <p:spPr>
          <a:xfrm>
            <a:off x="1124280" y="278136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тил-е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= -23,6 ˚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900000" y="1268280"/>
          <a:ext cx="712476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1247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-468360" y="443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= 78,3 ˚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а водонич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"/>
          <p:cNvGraphicFramePr/>
          <p:nvPr/>
        </p:nvGraphicFramePr>
        <p:xfrm>
          <a:off x="1835280" y="1773360"/>
          <a:ext cx="5143320" cy="44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73360"/>
                    <a:ext cx="5143320" cy="44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Box 4"/>
          <p:cNvSpPr/>
          <p:nvPr/>
        </p:nvSpPr>
        <p:spPr>
          <a:xfrm>
            <a:off x="1126800" y="342900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хидроксибензоев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66800" y="37162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хидроксибензоев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везе које гради угље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468360" y="1773360"/>
          <a:ext cx="3456000" cy="50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3456000" cy="50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Box 4"/>
          <p:cNvSpPr/>
          <p:nvPr/>
        </p:nvSpPr>
        <p:spPr>
          <a:xfrm>
            <a:off x="5292720" y="2421000"/>
            <a:ext cx="30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електронс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е угљеник треба да гради д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 ве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органским једињењима угљеник увек гради четири ковалентне вез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2"/>
          <p:cNvGraphicFramePr/>
          <p:nvPr/>
        </p:nvGraphicFramePr>
        <p:xfrm>
          <a:off x="611280" y="1700280"/>
          <a:ext cx="70563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0563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Box 4"/>
          <p:cNvSpPr/>
          <p:nvPr/>
        </p:nvSpPr>
        <p:spPr>
          <a:xfrm>
            <a:off x="983880" y="4149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066120" y="4149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ђе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6235920" y="32130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5733360" y="37162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971640" y="5084640"/>
          <a:ext cx="26334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84640"/>
                    <a:ext cx="26334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Box 14"/>
          <p:cNvSpPr/>
          <p:nvPr/>
        </p:nvSpPr>
        <p:spPr>
          <a:xfrm>
            <a:off x="986760" y="5445000"/>
            <a:ext cx="304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—C → 0,154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C—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; 1 С—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4944240" y="51577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а слободне ротације око </a:t>
            </a:r>
            <a:r>
              <a:rPr b="1" lang="el-GR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вез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061640"/>
            <a:ext cx="814716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их орби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2060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е орбитале заузимају међусобни угао од 109,5 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12"/>
          <p:cNvGraphicFramePr/>
          <p:nvPr/>
        </p:nvGraphicFramePr>
        <p:xfrm>
          <a:off x="3419640" y="4724280"/>
          <a:ext cx="208908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208908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13"/>
          <p:cNvGraphicFramePr/>
          <p:nvPr/>
        </p:nvGraphicFramePr>
        <p:xfrm>
          <a:off x="1619280" y="2565360"/>
          <a:ext cx="5183280" cy="21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565360"/>
                    <a:ext cx="5183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Bohr-ов атомски модел. Према Bohr-овој атомској теорији (1913. године) електрони се крећу око језгра по извесним стабилним, тачно одређеним путањама и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е су квантиране, тј. чији полупречници имају дискретне вредности условљене вредношћу главног квантног број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, 3 ит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= ∆h ∙ 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983880" y="4149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3066120" y="4149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ђе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733360" y="37162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986760" y="5445000"/>
            <a:ext cx="316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—C → 0,133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C—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; 1 С—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—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4500720" y="4941720"/>
            <a:ext cx="43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ма ротације око двогубе вез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ло би до раскидања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енти на С-атомима двогубе везе имају дефинисан положај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611280" y="1773360"/>
          <a:ext cx="7632720" cy="25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73360"/>
                    <a:ext cx="763272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5"/>
          <p:cNvGraphicFramePr/>
          <p:nvPr/>
        </p:nvGraphicFramePr>
        <p:xfrm>
          <a:off x="971640" y="5084640"/>
          <a:ext cx="25239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84640"/>
                    <a:ext cx="25239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s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их орби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Object 5"/>
          <p:cNvGraphicFramePr/>
          <p:nvPr/>
        </p:nvGraphicFramePr>
        <p:xfrm>
          <a:off x="3348000" y="4581360"/>
          <a:ext cx="274320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581360"/>
                    <a:ext cx="274320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1835280" y="2205000"/>
          <a:ext cx="538776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205000"/>
                    <a:ext cx="538776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TextBox 5"/>
          <p:cNvSpPr/>
          <p:nvPr/>
        </p:nvSpPr>
        <p:spPr>
          <a:xfrm>
            <a:off x="468360" y="1844640"/>
            <a:ext cx="820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е орбитале заузимају међусобни угао од 120 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 хибрид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983880" y="41497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3066120" y="41497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ђе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5733360" y="37162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992880" y="5445000"/>
            <a:ext cx="452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—C → 0,120 n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—H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; 1 С—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; 2 С—C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042920" y="5084640"/>
          <a:ext cx="21733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084640"/>
                    <a:ext cx="21733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684360" y="1557360"/>
          <a:ext cx="7559640" cy="26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557360"/>
                    <a:ext cx="755964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sp хибридних орби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2"/>
          <p:cNvGraphicFramePr/>
          <p:nvPr/>
        </p:nvGraphicFramePr>
        <p:xfrm>
          <a:off x="2556000" y="4581360"/>
          <a:ext cx="4176720" cy="14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4581360"/>
                    <a:ext cx="4176720" cy="14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1835280" y="2421000"/>
          <a:ext cx="5389560" cy="23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421000"/>
                    <a:ext cx="538956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Box 5"/>
          <p:cNvSpPr/>
          <p:nvPr/>
        </p:nvSpPr>
        <p:spPr>
          <a:xfrm>
            <a:off x="653760" y="1700280"/>
            <a:ext cx="7854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 хибридне орбитале заузимају међусобни угао од 180 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амонија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азота је ѕ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468360" y="1341360"/>
          <a:ext cx="331164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1164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6"/>
          <p:cNvGraphicFramePr/>
          <p:nvPr/>
        </p:nvGraphicFramePr>
        <p:xfrm>
          <a:off x="4427640" y="1700280"/>
          <a:ext cx="2741400" cy="35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700280"/>
                    <a:ext cx="27414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Box 7"/>
          <p:cNvSpPr/>
          <p:nvPr/>
        </p:nvSpPr>
        <p:spPr>
          <a:xfrm>
            <a:off x="1369440" y="4797360"/>
            <a:ext cx="24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е орбит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6306480" y="1484280"/>
            <a:ext cx="28494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и електронски пар у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ѕр</a:t>
            </a:r>
            <a:r>
              <a:rPr b="0" lang="en-US" sz="17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ној орбита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5"/>
          <p:cNvGraphicFramePr/>
          <p:nvPr/>
        </p:nvGraphicFramePr>
        <p:xfrm>
          <a:off x="2916360" y="1125360"/>
          <a:ext cx="2950920" cy="43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125360"/>
                    <a:ext cx="2950920" cy="43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Box 6"/>
          <p:cNvSpPr/>
          <p:nvPr/>
        </p:nvSpPr>
        <p:spPr>
          <a:xfrm>
            <a:off x="1641960" y="5589720"/>
            <a:ext cx="56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 во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кисеоника је ѕр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југовани (спрегнути) 1,3-диенски систем-бутади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324000" y="2637000"/>
          <a:ext cx="852300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85230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Object 4"/>
          <p:cNvGraphicFramePr/>
          <p:nvPr/>
        </p:nvGraphicFramePr>
        <p:xfrm>
          <a:off x="1042920" y="1341360"/>
          <a:ext cx="702648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41360"/>
                    <a:ext cx="702648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а хидрогениз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258920" y="2276640"/>
          <a:ext cx="65768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76640"/>
                    <a:ext cx="6576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4"/>
          <p:cNvGraphicFramePr/>
          <p:nvPr/>
        </p:nvGraphicFramePr>
        <p:xfrm>
          <a:off x="1258920" y="1268280"/>
          <a:ext cx="67784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67784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ectangle 4"/>
          <p:cNvSpPr/>
          <p:nvPr/>
        </p:nvSpPr>
        <p:spPr>
          <a:xfrm>
            <a:off x="2556000" y="5229360"/>
            <a:ext cx="4248000" cy="576000"/>
          </a:xfrm>
          <a:prstGeom prst="rect">
            <a:avLst/>
          </a:prstGeom>
          <a:solidFill>
            <a:srgbClr val="2d2d8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2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6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) Таласномеханички атомски модел. (1925-26. година Heisenberg &amp; Schrödinger) Закони класичне физике се не могу применити на субатомске честице, чак ни на атоме мале ма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eisenberg-ов принцип неодређе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Није могуће, на пример електрону, одредити са сигурношћу истовремено положај и његову енергију, и уколико се прецизније одређује једна величина утолико ће друга бити неизвесниј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кал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2268360" y="2421000"/>
          <a:ext cx="4896000" cy="34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421000"/>
                    <a:ext cx="4896000" cy="34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Straight Connector 5"/>
          <p:cNvSpPr/>
          <p:nvPr/>
        </p:nvSpPr>
        <p:spPr>
          <a:xfrm>
            <a:off x="2771640" y="270828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7"/>
          <p:cNvSpPr/>
          <p:nvPr/>
        </p:nvSpPr>
        <p:spPr>
          <a:xfrm>
            <a:off x="5364000" y="335772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8"/>
          <p:cNvSpPr/>
          <p:nvPr/>
        </p:nvSpPr>
        <p:spPr>
          <a:xfrm>
            <a:off x="2771640" y="5013360"/>
            <a:ext cx="1368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5435640" y="5589720"/>
            <a:ext cx="1368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0"/>
          <p:cNvSpPr/>
          <p:nvPr/>
        </p:nvSpPr>
        <p:spPr>
          <a:xfrm>
            <a:off x="4140360" y="2708280"/>
            <a:ext cx="1223640" cy="649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14"/>
          <p:cNvSpPr/>
          <p:nvPr/>
        </p:nvSpPr>
        <p:spPr>
          <a:xfrm>
            <a:off x="4140360" y="5013360"/>
            <a:ext cx="129528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urved Down Arrow 4"/>
          <p:cNvSpPr/>
          <p:nvPr/>
        </p:nvSpPr>
        <p:spPr>
          <a:xfrm>
            <a:off x="3492360" y="3645000"/>
            <a:ext cx="792360" cy="360360"/>
          </a:xfrm>
          <a:custGeom>
            <a:avLst/>
            <a:gdLst>
              <a:gd name="textAreaLeft" fmla="*/ 164160 w 792360"/>
              <a:gd name="textAreaRight" fmla="*/ 583200 w 792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8" hR="21600" stAng="10800000" swAng="5400000"/>
                <a:lnTo>
                  <a:pt x="11415" y="0"/>
                </a:lnTo>
                <a:arcTo wR="8958" hR="21600" stAng="-5400000" swAng="3485573"/>
                <a:lnTo>
                  <a:pt x="21316" y="16200"/>
                </a:lnTo>
                <a:lnTo>
                  <a:pt x="19144" y="21600"/>
                </a:lnTo>
                <a:lnTo>
                  <a:pt x="16403" y="16200"/>
                </a:lnTo>
                <a:lnTo>
                  <a:pt x="17631" y="16200"/>
                </a:lnTo>
                <a:arcTo wR="8958" hR="21600" stAng="-1914427" swAng="-3288403"/>
                <a:lnTo>
                  <a:pt x="10186" y="204"/>
                </a:lnTo>
                <a:arcTo wR="8958" hR="21600" stAng="-5597171" swAng="-5202829"/>
                <a:close/>
              </a:path>
              <a:path fill="darkenLess" w="21600" h="21600">
                <a:moveTo>
                  <a:pt x="0" y="21600"/>
                </a:moveTo>
                <a:arcTo wR="8958" hR="21600" stAng="10800000" swAng="5400000"/>
                <a:lnTo>
                  <a:pt x="8958" y="0"/>
                </a:lnTo>
                <a:arcTo wR="8958" hR="21600" stAng="-5400000" swAng="197171"/>
                <a:lnTo>
                  <a:pt x="10186" y="204"/>
                </a:lnTo>
                <a:arcTo wR="8958" hR="21600" stAng="-5597171" swAng="-5202829"/>
                <a:close/>
              </a:path>
            </a:pathLst>
          </a:custGeom>
          <a:solidFill>
            <a:srgbClr val="6b6bc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Down Arrow 5"/>
          <p:cNvSpPr/>
          <p:nvPr/>
        </p:nvSpPr>
        <p:spPr>
          <a:xfrm>
            <a:off x="5003640" y="3716280"/>
            <a:ext cx="648000" cy="289080"/>
          </a:xfrm>
          <a:custGeom>
            <a:avLst/>
            <a:gdLst>
              <a:gd name="textAreaLeft" fmla="*/ 134640 w 648000"/>
              <a:gd name="textAreaRight" fmla="*/ 477000 w 648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94" hR="21600" stAng="10800000" swAng="5400000"/>
                <a:lnTo>
                  <a:pt x="11402" y="0"/>
                </a:lnTo>
                <a:arcTo wR="8994" hR="21600" stAng="-5400000" swAng="3491754"/>
                <a:lnTo>
                  <a:pt x="21314" y="16200"/>
                </a:lnTo>
                <a:lnTo>
                  <a:pt x="19191" y="21600"/>
                </a:lnTo>
                <a:lnTo>
                  <a:pt x="16496" y="16200"/>
                </a:lnTo>
                <a:lnTo>
                  <a:pt x="17701" y="16200"/>
                </a:lnTo>
                <a:arcTo wR="8994" hR="21600" stAng="-1908246" swAng="-3298595"/>
                <a:lnTo>
                  <a:pt x="10198" y="194"/>
                </a:lnTo>
                <a:arcTo wR="8994" hR="21600" stAng="-5593160" swAng="-5206840"/>
                <a:close/>
              </a:path>
              <a:path fill="darkenLess" w="21600" h="21600">
                <a:moveTo>
                  <a:pt x="0" y="21600"/>
                </a:moveTo>
                <a:arcTo wR="8994" hR="21600" stAng="10800000" swAng="5400000"/>
                <a:lnTo>
                  <a:pt x="8994" y="0"/>
                </a:lnTo>
                <a:arcTo wR="8994" hR="21600" stAng="-5400000" swAng="193160"/>
                <a:lnTo>
                  <a:pt x="10198" y="194"/>
                </a:lnTo>
                <a:arcTo wR="8994" hR="21600" stAng="-5593160" swAng="-5206840"/>
                <a:close/>
              </a:path>
            </a:pathLst>
          </a:custGeom>
          <a:solidFill>
            <a:srgbClr val="6b6bc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urved Down Arrow 6"/>
          <p:cNvSpPr/>
          <p:nvPr/>
        </p:nvSpPr>
        <p:spPr>
          <a:xfrm rot="11020200">
            <a:off x="4295880" y="4174560"/>
            <a:ext cx="815760" cy="414360"/>
          </a:xfrm>
          <a:custGeom>
            <a:avLst/>
            <a:gdLst>
              <a:gd name="textAreaLeft" fmla="*/ 164880 w 815760"/>
              <a:gd name="textAreaRight" fmla="*/ 599040 w 815760"/>
              <a:gd name="textAreaTop" fmla="*/ 55440 h 414360"/>
              <a:gd name="textAreaBottom" fmla="*/ 3589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44" hR="21600" stAng="10800000" swAng="5400000"/>
                <a:lnTo>
                  <a:pt x="11486" y="0"/>
                </a:lnTo>
                <a:arcTo wR="8744" hR="21600" stAng="-5400000" swAng="3448079"/>
                <a:lnTo>
                  <a:pt x="21322" y="16200"/>
                </a:lnTo>
                <a:lnTo>
                  <a:pt x="18858" y="21600"/>
                </a:lnTo>
                <a:lnTo>
                  <a:pt x="15838" y="16200"/>
                </a:lnTo>
                <a:lnTo>
                  <a:pt x="17209" y="16200"/>
                </a:lnTo>
                <a:arcTo wR="8744" hR="21600" stAng="-1951921" swAng="-3227448"/>
                <a:lnTo>
                  <a:pt x="10115" y="267"/>
                </a:lnTo>
                <a:arcTo wR="8744" hR="21600" stAng="-5620631" swAng="-5179369"/>
                <a:close/>
              </a:path>
              <a:path fill="darkenLess" w="21600" h="21600">
                <a:moveTo>
                  <a:pt x="0" y="21600"/>
                </a:moveTo>
                <a:arcTo wR="8744" hR="21600" stAng="10800000" swAng="5400000"/>
                <a:lnTo>
                  <a:pt x="8744" y="0"/>
                </a:lnTo>
                <a:arcTo wR="8744" hR="21600" stAng="-5400000" swAng="220631"/>
                <a:lnTo>
                  <a:pt x="10115" y="267"/>
                </a:lnTo>
                <a:arcTo wR="8744" hR="21600" stAng="-5620631" swAng="-5179369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urved Down Arrow 7"/>
          <p:cNvSpPr/>
          <p:nvPr/>
        </p:nvSpPr>
        <p:spPr>
          <a:xfrm rot="10800000">
            <a:off x="2700360" y="4221000"/>
            <a:ext cx="792000" cy="432000"/>
          </a:xfrm>
          <a:custGeom>
            <a:avLst/>
            <a:gdLst>
              <a:gd name="textAreaLeft" fmla="*/ 157320 w 792000"/>
              <a:gd name="textAreaRight" fmla="*/ 580680 w 792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93" hR="21600" stAng="10800000" swAng="5400000"/>
                <a:lnTo>
                  <a:pt x="11536" y="0"/>
                </a:lnTo>
                <a:arcTo wR="8593" hR="21600" stAng="-5400000" swAng="3420827"/>
                <a:lnTo>
                  <a:pt x="21327" y="16200"/>
                </a:lnTo>
                <a:lnTo>
                  <a:pt x="18657" y="21600"/>
                </a:lnTo>
                <a:lnTo>
                  <a:pt x="15440" y="16200"/>
                </a:lnTo>
                <a:lnTo>
                  <a:pt x="16912" y="16200"/>
                </a:lnTo>
                <a:arcTo wR="8593" hR="21600" stAng="-1979173" swAng="-3183497"/>
                <a:lnTo>
                  <a:pt x="10064" y="319"/>
                </a:lnTo>
                <a:arcTo wR="8593" hR="21600" stAng="-5637330" swAng="-5162670"/>
                <a:close/>
              </a:path>
              <a:path fill="darkenLess" w="21600" h="21600">
                <a:moveTo>
                  <a:pt x="0" y="21600"/>
                </a:moveTo>
                <a:arcTo wR="8593" hR="21600" stAng="10800000" swAng="5400000"/>
                <a:lnTo>
                  <a:pt x="8593" y="0"/>
                </a:lnTo>
                <a:arcTo wR="8593" hR="21600" stAng="-5400000" swAng="237330"/>
                <a:lnTo>
                  <a:pt x="10064" y="319"/>
                </a:lnTo>
                <a:arcTo wR="8593" hR="21600" stAng="-5637330" swAng="-5162670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22760" y="4869000"/>
            <a:ext cx="256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онанциони об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онанциони хибр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2627280" y="1989000"/>
          <a:ext cx="34574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989000"/>
                    <a:ext cx="3457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ounded Rectangle 11"/>
          <p:cNvSpPr/>
          <p:nvPr/>
        </p:nvSpPr>
        <p:spPr>
          <a:xfrm>
            <a:off x="179280" y="2276640"/>
            <a:ext cx="2016360" cy="15127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611280" y="2421000"/>
          <a:ext cx="115236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421000"/>
                    <a:ext cx="115236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Box 13"/>
          <p:cNvSpPr/>
          <p:nvPr/>
        </p:nvSpPr>
        <p:spPr>
          <a:xfrm>
            <a:off x="544680" y="263700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и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систем-бенз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2124000" y="2997360"/>
          <a:ext cx="5112000" cy="13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997360"/>
                    <a:ext cx="5112000" cy="13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Box 5"/>
          <p:cNvSpPr/>
          <p:nvPr/>
        </p:nvSpPr>
        <p:spPr>
          <a:xfrm>
            <a:off x="2157840" y="1989000"/>
            <a:ext cx="493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зен (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Michael Faraday 18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1768320" y="4508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den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4072320" y="450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9"/>
          <p:cNvSpPr/>
          <p:nvPr/>
        </p:nvSpPr>
        <p:spPr>
          <a:xfrm>
            <a:off x="6234480" y="450864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Object 4"/>
          <p:cNvGraphicFramePr/>
          <p:nvPr/>
        </p:nvGraphicFramePr>
        <p:xfrm>
          <a:off x="1042920" y="1268280"/>
          <a:ext cx="7129440" cy="41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268280"/>
                    <a:ext cx="7129440" cy="41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Box 4"/>
          <p:cNvSpPr/>
          <p:nvPr/>
        </p:nvSpPr>
        <p:spPr>
          <a:xfrm>
            <a:off x="3425400" y="234936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kulé-ова структур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битно објашњ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4284720" y="3284640"/>
            <a:ext cx="9349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1042920" y="4653000"/>
            <a:ext cx="2881440" cy="115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 нађена д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дисупститу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адиције одвијају се веома те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електрофилне супституције одвијају се релативно ла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2411280" y="3573360"/>
          <a:ext cx="421344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573360"/>
                    <a:ext cx="42134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Straight Connector 5"/>
          <p:cNvSpPr/>
          <p:nvPr/>
        </p:nvSpPr>
        <p:spPr>
          <a:xfrm flipV="1">
            <a:off x="4211640" y="4005000"/>
            <a:ext cx="647640" cy="718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7"/>
          <p:cNvSpPr/>
          <p:nvPr/>
        </p:nvSpPr>
        <p:spPr>
          <a:xfrm>
            <a:off x="4211640" y="4005360"/>
            <a:ext cx="720720" cy="718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5513400" y="306864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6"/>
          <p:cNvSpPr/>
          <p:nvPr/>
        </p:nvSpPr>
        <p:spPr>
          <a:xfrm>
            <a:off x="1979640" y="4581360"/>
            <a:ext cx="4896000" cy="1295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60-208 = 15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зонанциона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нергија аромат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6"/>
          <p:cNvGraphicFramePr/>
          <p:nvPr/>
        </p:nvGraphicFramePr>
        <p:xfrm>
          <a:off x="1332000" y="2565360"/>
          <a:ext cx="645624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565360"/>
                    <a:ext cx="645624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Object 4"/>
          <p:cNvGraphicFramePr/>
          <p:nvPr/>
        </p:nvGraphicFramePr>
        <p:xfrm>
          <a:off x="925560" y="976320"/>
          <a:ext cx="568944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5560" y="976320"/>
                    <a:ext cx="568944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4"/>
          <p:cNvSpPr/>
          <p:nvPr/>
        </p:nvSpPr>
        <p:spPr>
          <a:xfrm>
            <a:off x="4670640" y="220032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клохексатриен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3"/>
          <p:cNvSpPr/>
          <p:nvPr/>
        </p:nvSpPr>
        <p:spPr>
          <a:xfrm>
            <a:off x="4319640" y="5300640"/>
            <a:ext cx="4716360" cy="1440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60-208 = 152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резонанциона енер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енергија аромат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4"/>
          <p:cNvGraphicFramePr/>
          <p:nvPr/>
        </p:nvGraphicFramePr>
        <p:xfrm>
          <a:off x="971640" y="1341360"/>
          <a:ext cx="4464000" cy="433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446400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Straight Connector 6"/>
          <p:cNvSpPr/>
          <p:nvPr/>
        </p:nvSpPr>
        <p:spPr>
          <a:xfrm>
            <a:off x="2556000" y="5445000"/>
            <a:ext cx="107928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8"/>
          <p:cNvSpPr/>
          <p:nvPr/>
        </p:nvSpPr>
        <p:spPr>
          <a:xfrm>
            <a:off x="2484360" y="3284640"/>
            <a:ext cx="1224000" cy="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>
            <a:off x="3708360" y="3284640"/>
            <a:ext cx="719280" cy="10080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3"/>
          <p:cNvSpPr/>
          <p:nvPr/>
        </p:nvSpPr>
        <p:spPr>
          <a:xfrm flipH="1">
            <a:off x="1763640" y="3284640"/>
            <a:ext cx="720720" cy="10810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5"/>
          <p:cNvSpPr/>
          <p:nvPr/>
        </p:nvSpPr>
        <p:spPr>
          <a:xfrm>
            <a:off x="1763640" y="4365720"/>
            <a:ext cx="792360" cy="107928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 flipH="1">
            <a:off x="3634920" y="4292640"/>
            <a:ext cx="792360" cy="1152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21"/>
          <p:cNvSpPr/>
          <p:nvPr/>
        </p:nvSpPr>
        <p:spPr>
          <a:xfrm>
            <a:off x="2484360" y="170028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3"/>
          <p:cNvSpPr/>
          <p:nvPr/>
        </p:nvSpPr>
        <p:spPr>
          <a:xfrm>
            <a:off x="2484360" y="378936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4"/>
          <p:cNvSpPr/>
          <p:nvPr/>
        </p:nvSpPr>
        <p:spPr>
          <a:xfrm>
            <a:off x="3708360" y="1700280"/>
            <a:ext cx="71928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8"/>
          <p:cNvSpPr/>
          <p:nvPr/>
        </p:nvSpPr>
        <p:spPr>
          <a:xfrm>
            <a:off x="1763640" y="2781360"/>
            <a:ext cx="720720" cy="100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9"/>
          <p:cNvSpPr/>
          <p:nvPr/>
        </p:nvSpPr>
        <p:spPr>
          <a:xfrm flipH="1">
            <a:off x="1763640" y="1700280"/>
            <a:ext cx="72072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32"/>
          <p:cNvSpPr/>
          <p:nvPr/>
        </p:nvSpPr>
        <p:spPr>
          <a:xfrm flipH="1">
            <a:off x="3708360" y="2708280"/>
            <a:ext cx="719280" cy="10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38"/>
          <p:cNvSpPr/>
          <p:nvPr/>
        </p:nvSpPr>
        <p:spPr>
          <a:xfrm>
            <a:off x="4932360" y="3933720"/>
            <a:ext cx="402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 ѕр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их С а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 С-Н и шест С-С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С-С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) Атомске орбита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орбитале може се објаснити на два нач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стина вероватно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устина шар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) Квантни бројеви. Свака орбитала окарактерисана је помоћу четири квантна броја: главног квантног број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поредног или азимуталног (орбитални) квантног број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гнетног квантног број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пинског квантног број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вантни броје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4"/>
          <p:cNvGrpSpPr/>
          <p:nvPr/>
        </p:nvGrpSpPr>
        <p:grpSpPr>
          <a:xfrm>
            <a:off x="395280" y="1844640"/>
            <a:ext cx="8228880" cy="4525200"/>
            <a:chOff x="395280" y="1844640"/>
            <a:chExt cx="8228880" cy="4525200"/>
          </a:xfrm>
        </p:grpSpPr>
        <p:grpSp>
          <p:nvGrpSpPr>
            <p:cNvPr id="59" name="Group 5"/>
            <p:cNvGrpSpPr/>
            <p:nvPr/>
          </p:nvGrpSpPr>
          <p:grpSpPr>
            <a:xfrm>
              <a:off x="395280" y="1844640"/>
              <a:ext cx="1118160" cy="748800"/>
              <a:chOff x="395280" y="1844640"/>
              <a:chExt cx="1118160" cy="74880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395280" y="1844640"/>
                <a:ext cx="1118160" cy="74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" name="Group 7"/>
              <p:cNvGrpSpPr/>
              <p:nvPr/>
            </p:nvGrpSpPr>
            <p:grpSpPr>
              <a:xfrm>
                <a:off x="395280" y="1844640"/>
                <a:ext cx="1117800" cy="748440"/>
                <a:chOff x="395280" y="1844640"/>
                <a:chExt cx="1117800" cy="748440"/>
              </a:xfrm>
            </p:grpSpPr>
            <p:sp>
              <p:nvSpPr>
                <p:cNvPr id="62" name="Rectangle 8"/>
                <p:cNvSpPr/>
                <p:nvPr/>
              </p:nvSpPr>
              <p:spPr>
                <a:xfrm>
                  <a:off x="441000" y="1844640"/>
                  <a:ext cx="102600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Симбол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Rectangle 9"/>
                <p:cNvSpPr/>
                <p:nvPr/>
              </p:nvSpPr>
              <p:spPr>
                <a:xfrm>
                  <a:off x="395280" y="1844640"/>
                  <a:ext cx="111780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имбо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Group 10"/>
            <p:cNvGrpSpPr/>
            <p:nvPr/>
          </p:nvGrpSpPr>
          <p:grpSpPr>
            <a:xfrm>
              <a:off x="1513800" y="1844640"/>
              <a:ext cx="1511280" cy="748800"/>
              <a:chOff x="1513800" y="1844640"/>
              <a:chExt cx="1511280" cy="748800"/>
            </a:xfrm>
          </p:grpSpPr>
          <p:sp>
            <p:nvSpPr>
              <p:cNvPr id="65" name="Rectangle 11"/>
              <p:cNvSpPr/>
              <p:nvPr/>
            </p:nvSpPr>
            <p:spPr>
              <a:xfrm>
                <a:off x="1513800" y="1844640"/>
                <a:ext cx="1511280" cy="74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513800" y="1844640"/>
                <a:ext cx="1510920" cy="748440"/>
                <a:chOff x="1513800" y="1844640"/>
                <a:chExt cx="1510920" cy="748440"/>
              </a:xfrm>
            </p:grpSpPr>
            <p:sp>
              <p:nvSpPr>
                <p:cNvPr id="67" name="Rectangle 13"/>
                <p:cNvSpPr/>
                <p:nvPr/>
              </p:nvSpPr>
              <p:spPr>
                <a:xfrm>
                  <a:off x="1559520" y="1844640"/>
                  <a:ext cx="1419120" cy="748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Назив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14"/>
                <p:cNvSpPr/>
                <p:nvPr/>
              </p:nvSpPr>
              <p:spPr>
                <a:xfrm>
                  <a:off x="1513800" y="1844640"/>
                  <a:ext cx="151092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зи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" name="Group 15"/>
            <p:cNvGrpSpPr/>
            <p:nvPr/>
          </p:nvGrpSpPr>
          <p:grpSpPr>
            <a:xfrm>
              <a:off x="3025800" y="1844640"/>
              <a:ext cx="1513080" cy="748800"/>
              <a:chOff x="3025800" y="1844640"/>
              <a:chExt cx="1513080" cy="748800"/>
            </a:xfrm>
          </p:grpSpPr>
          <p:sp>
            <p:nvSpPr>
              <p:cNvPr id="70" name="Rectangle 16"/>
              <p:cNvSpPr/>
              <p:nvPr/>
            </p:nvSpPr>
            <p:spPr>
              <a:xfrm>
                <a:off x="3025800" y="1844640"/>
                <a:ext cx="1513080" cy="74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" name="Group 17"/>
              <p:cNvGrpSpPr/>
              <p:nvPr/>
            </p:nvGrpSpPr>
            <p:grpSpPr>
              <a:xfrm>
                <a:off x="3025800" y="1844640"/>
                <a:ext cx="1512720" cy="748440"/>
                <a:chOff x="3025800" y="1844640"/>
                <a:chExt cx="1512720" cy="748440"/>
              </a:xfrm>
            </p:grpSpPr>
            <p:sp>
              <p:nvSpPr>
                <p:cNvPr id="72" name="Rectangle 18"/>
                <p:cNvSpPr/>
                <p:nvPr/>
              </p:nvSpPr>
              <p:spPr>
                <a:xfrm>
                  <a:off x="3071520" y="1844640"/>
                  <a:ext cx="142092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Вреднос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19"/>
                <p:cNvSpPr/>
                <p:nvPr/>
              </p:nvSpPr>
              <p:spPr>
                <a:xfrm>
                  <a:off x="3025800" y="1844640"/>
                  <a:ext cx="151272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реднос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" name="Group 20"/>
            <p:cNvGrpSpPr/>
            <p:nvPr/>
          </p:nvGrpSpPr>
          <p:grpSpPr>
            <a:xfrm>
              <a:off x="4539600" y="1844640"/>
              <a:ext cx="4084560" cy="748800"/>
              <a:chOff x="4539600" y="1844640"/>
              <a:chExt cx="4084560" cy="748800"/>
            </a:xfrm>
          </p:grpSpPr>
          <p:sp>
            <p:nvSpPr>
              <p:cNvPr id="75" name="Rectangle 21"/>
              <p:cNvSpPr/>
              <p:nvPr/>
            </p:nvSpPr>
            <p:spPr>
              <a:xfrm>
                <a:off x="4539600" y="1844640"/>
                <a:ext cx="4084560" cy="74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Group 22"/>
              <p:cNvGrpSpPr/>
              <p:nvPr/>
            </p:nvGrpSpPr>
            <p:grpSpPr>
              <a:xfrm>
                <a:off x="4539600" y="1844640"/>
                <a:ext cx="4084200" cy="748440"/>
                <a:chOff x="4539600" y="1844640"/>
                <a:chExt cx="4084200" cy="748440"/>
              </a:xfrm>
            </p:grpSpPr>
            <p:sp>
              <p:nvSpPr>
                <p:cNvPr id="77" name="Rectangle 23"/>
                <p:cNvSpPr/>
                <p:nvPr/>
              </p:nvSpPr>
              <p:spPr>
                <a:xfrm>
                  <a:off x="4585320" y="1844640"/>
                  <a:ext cx="3992760" cy="748440"/>
                </a:xfrm>
                <a:prstGeom prst="rect">
                  <a:avLst/>
                </a:prstGeom>
                <a:solidFill>
                  <a:srgbClr val="757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R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Улог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24"/>
                <p:cNvSpPr/>
                <p:nvPr/>
              </p:nvSpPr>
              <p:spPr>
                <a:xfrm>
                  <a:off x="4539600" y="1844640"/>
                  <a:ext cx="4084200" cy="748440"/>
                </a:xfrm>
                <a:prstGeom prst="rect">
                  <a:avLst/>
                </a:prstGeom>
                <a:solidFill>
                  <a:srgbClr val="7030a0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лог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" name="Group 25"/>
            <p:cNvGrpSpPr/>
            <p:nvPr/>
          </p:nvGrpSpPr>
          <p:grpSpPr>
            <a:xfrm>
              <a:off x="395280" y="2593800"/>
              <a:ext cx="1118160" cy="747000"/>
              <a:chOff x="395280" y="2593800"/>
              <a:chExt cx="1118160" cy="747000"/>
            </a:xfrm>
          </p:grpSpPr>
          <p:sp>
            <p:nvSpPr>
              <p:cNvPr id="80" name="Rectangle 26"/>
              <p:cNvSpPr/>
              <p:nvPr/>
            </p:nvSpPr>
            <p:spPr>
              <a:xfrm>
                <a:off x="441000" y="2593800"/>
                <a:ext cx="102636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VE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27"/>
              <p:cNvSpPr/>
              <p:nvPr/>
            </p:nvSpPr>
            <p:spPr>
              <a:xfrm>
                <a:off x="395280" y="2593800"/>
                <a:ext cx="1118160" cy="74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28"/>
            <p:cNvGrpSpPr/>
            <p:nvPr/>
          </p:nvGrpSpPr>
          <p:grpSpPr>
            <a:xfrm>
              <a:off x="1513800" y="2593800"/>
              <a:ext cx="1511280" cy="747000"/>
              <a:chOff x="1513800" y="2593800"/>
              <a:chExt cx="1511280" cy="747000"/>
            </a:xfrm>
          </p:grpSpPr>
          <p:sp>
            <p:nvSpPr>
              <p:cNvPr id="83" name="Rectangle 29"/>
              <p:cNvSpPr/>
              <p:nvPr/>
            </p:nvSpPr>
            <p:spPr>
              <a:xfrm>
                <a:off x="1559520" y="2593800"/>
                <a:ext cx="141948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Глав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вант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бро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30"/>
              <p:cNvSpPr/>
              <p:nvPr/>
            </p:nvSpPr>
            <p:spPr>
              <a:xfrm>
                <a:off x="1513800" y="2593800"/>
                <a:ext cx="1511280" cy="74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31"/>
            <p:cNvGrpSpPr/>
            <p:nvPr/>
          </p:nvGrpSpPr>
          <p:grpSpPr>
            <a:xfrm>
              <a:off x="3025800" y="2593800"/>
              <a:ext cx="1513080" cy="747000"/>
              <a:chOff x="3025800" y="2593800"/>
              <a:chExt cx="1513080" cy="747000"/>
            </a:xfrm>
          </p:grpSpPr>
          <p:sp>
            <p:nvSpPr>
              <p:cNvPr id="86" name="Rectangle 32"/>
              <p:cNvSpPr/>
              <p:nvPr/>
            </p:nvSpPr>
            <p:spPr>
              <a:xfrm>
                <a:off x="3071520" y="2593800"/>
                <a:ext cx="142128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, 2, 3, 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33"/>
              <p:cNvSpPr/>
              <p:nvPr/>
            </p:nvSpPr>
            <p:spPr>
              <a:xfrm>
                <a:off x="3025800" y="2593800"/>
                <a:ext cx="1513080" cy="74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34"/>
            <p:cNvGrpSpPr/>
            <p:nvPr/>
          </p:nvGrpSpPr>
          <p:grpSpPr>
            <a:xfrm>
              <a:off x="4539600" y="2593800"/>
              <a:ext cx="4084560" cy="747000"/>
              <a:chOff x="4539600" y="2593800"/>
              <a:chExt cx="4084560" cy="747000"/>
            </a:xfrm>
          </p:grpSpPr>
          <p:sp>
            <p:nvSpPr>
              <p:cNvPr id="89" name="Rectangle 35"/>
              <p:cNvSpPr/>
              <p:nvPr/>
            </p:nvSpPr>
            <p:spPr>
              <a:xfrm>
                <a:off x="4585320" y="2593800"/>
                <a:ext cx="3993120" cy="74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дређуј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нергију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нергетск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ниво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по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ом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с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лектрон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мож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ретати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36"/>
              <p:cNvSpPr/>
              <p:nvPr/>
            </p:nvSpPr>
            <p:spPr>
              <a:xfrm>
                <a:off x="4539600" y="2593800"/>
                <a:ext cx="4084560" cy="747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37"/>
            <p:cNvGrpSpPr/>
            <p:nvPr/>
          </p:nvGrpSpPr>
          <p:grpSpPr>
            <a:xfrm>
              <a:off x="395280" y="3341160"/>
              <a:ext cx="1118160" cy="1010520"/>
              <a:chOff x="395280" y="3341160"/>
              <a:chExt cx="1118160" cy="1010520"/>
            </a:xfrm>
          </p:grpSpPr>
          <p:sp>
            <p:nvSpPr>
              <p:cNvPr id="92" name="Rectangle 38"/>
              <p:cNvSpPr/>
              <p:nvPr/>
            </p:nvSpPr>
            <p:spPr>
              <a:xfrm>
                <a:off x="441000" y="3341160"/>
                <a:ext cx="1026360" cy="10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VE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39"/>
              <p:cNvSpPr/>
              <p:nvPr/>
            </p:nvSpPr>
            <p:spPr>
              <a:xfrm>
                <a:off x="395280" y="3341160"/>
                <a:ext cx="1118160" cy="101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40"/>
            <p:cNvGrpSpPr/>
            <p:nvPr/>
          </p:nvGrpSpPr>
          <p:grpSpPr>
            <a:xfrm>
              <a:off x="1513800" y="3341160"/>
              <a:ext cx="1511280" cy="1010520"/>
              <a:chOff x="1513800" y="3341160"/>
              <a:chExt cx="1511280" cy="1010520"/>
            </a:xfrm>
          </p:grpSpPr>
          <p:sp>
            <p:nvSpPr>
              <p:cNvPr id="95" name="Rectangle 41"/>
              <p:cNvSpPr/>
              <p:nvPr/>
            </p:nvSpPr>
            <p:spPr>
              <a:xfrm>
                <a:off x="1559520" y="3341160"/>
                <a:ext cx="1419480" cy="10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рбитални квантни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бро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42"/>
              <p:cNvSpPr/>
              <p:nvPr/>
            </p:nvSpPr>
            <p:spPr>
              <a:xfrm>
                <a:off x="1513800" y="3341160"/>
                <a:ext cx="1511280" cy="101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43"/>
            <p:cNvGrpSpPr/>
            <p:nvPr/>
          </p:nvGrpSpPr>
          <p:grpSpPr>
            <a:xfrm>
              <a:off x="3025800" y="3341160"/>
              <a:ext cx="1513080" cy="1010520"/>
              <a:chOff x="3025800" y="3341160"/>
              <a:chExt cx="1513080" cy="1010520"/>
            </a:xfrm>
          </p:grpSpPr>
          <p:sp>
            <p:nvSpPr>
              <p:cNvPr id="98" name="Rectangle 44"/>
              <p:cNvSpPr/>
              <p:nvPr/>
            </p:nvSpPr>
            <p:spPr>
              <a:xfrm>
                <a:off x="3071520" y="3341160"/>
                <a:ext cx="1421280" cy="10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, 1, 2, ..., n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45"/>
              <p:cNvSpPr/>
              <p:nvPr/>
            </p:nvSpPr>
            <p:spPr>
              <a:xfrm>
                <a:off x="3025800" y="3341160"/>
                <a:ext cx="1513080" cy="101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46"/>
            <p:cNvGrpSpPr/>
            <p:nvPr/>
          </p:nvGrpSpPr>
          <p:grpSpPr>
            <a:xfrm>
              <a:off x="4539600" y="3341160"/>
              <a:ext cx="4084560" cy="1010520"/>
              <a:chOff x="4539600" y="3341160"/>
              <a:chExt cx="4084560" cy="1010520"/>
            </a:xfrm>
          </p:grpSpPr>
          <p:sp>
            <p:nvSpPr>
              <p:cNvPr id="101" name="Rectangle 47"/>
              <p:cNvSpPr/>
              <p:nvPr/>
            </p:nvSpPr>
            <p:spPr>
              <a:xfrm>
                <a:off x="4585320" y="3341160"/>
                <a:ext cx="3993120" cy="101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Дефиниш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нергију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подниво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квиру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ст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нергетск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ниво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ст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вредност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главн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вантн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број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48"/>
              <p:cNvSpPr/>
              <p:nvPr/>
            </p:nvSpPr>
            <p:spPr>
              <a:xfrm>
                <a:off x="4539600" y="3341160"/>
                <a:ext cx="4084560" cy="1010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9"/>
            <p:cNvGrpSpPr/>
            <p:nvPr/>
          </p:nvGrpSpPr>
          <p:grpSpPr>
            <a:xfrm>
              <a:off x="395280" y="4352400"/>
              <a:ext cx="1118160" cy="1008720"/>
              <a:chOff x="395280" y="4352400"/>
              <a:chExt cx="1118160" cy="1008720"/>
            </a:xfrm>
          </p:grpSpPr>
          <p:sp>
            <p:nvSpPr>
              <p:cNvPr id="104" name="Rectangle 50"/>
              <p:cNvSpPr/>
              <p:nvPr/>
            </p:nvSpPr>
            <p:spPr>
              <a:xfrm>
                <a:off x="441000" y="4352400"/>
                <a:ext cx="1026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VE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</a:t>
                </a:r>
                <a:r>
                  <a:rPr b="1" i="1" lang="es-VE" sz="2400" spc="-1" strike="noStrike" baseline="-30000">
                    <a:solidFill>
                      <a:srgbClr val="000000"/>
                    </a:solidFill>
                    <a:latin typeface="Times New Roman"/>
                    <a:ea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51"/>
              <p:cNvSpPr/>
              <p:nvPr/>
            </p:nvSpPr>
            <p:spPr>
              <a:xfrm>
                <a:off x="395280" y="4352400"/>
                <a:ext cx="1118160" cy="100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52"/>
            <p:cNvGrpSpPr/>
            <p:nvPr/>
          </p:nvGrpSpPr>
          <p:grpSpPr>
            <a:xfrm>
              <a:off x="1513800" y="4352400"/>
              <a:ext cx="1511280" cy="1008720"/>
              <a:chOff x="1513800" y="4352400"/>
              <a:chExt cx="1511280" cy="1008720"/>
            </a:xfrm>
          </p:grpSpPr>
          <p:sp>
            <p:nvSpPr>
              <p:cNvPr id="107" name="Rectangle 53"/>
              <p:cNvSpPr/>
              <p:nvPr/>
            </p:nvSpPr>
            <p:spPr>
              <a:xfrm>
                <a:off x="1559520" y="4352400"/>
                <a:ext cx="14194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Магнет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квант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бро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54"/>
              <p:cNvSpPr/>
              <p:nvPr/>
            </p:nvSpPr>
            <p:spPr>
              <a:xfrm>
                <a:off x="1513800" y="4352400"/>
                <a:ext cx="1511280" cy="100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55"/>
            <p:cNvGrpSpPr/>
            <p:nvPr/>
          </p:nvGrpSpPr>
          <p:grpSpPr>
            <a:xfrm>
              <a:off x="3025800" y="4352400"/>
              <a:ext cx="1513080" cy="1008720"/>
              <a:chOff x="3025800" y="4352400"/>
              <a:chExt cx="1513080" cy="1008720"/>
            </a:xfrm>
          </p:grpSpPr>
          <p:sp>
            <p:nvSpPr>
              <p:cNvPr id="110" name="Rectangle 56"/>
              <p:cNvSpPr/>
              <p:nvPr/>
            </p:nvSpPr>
            <p:spPr>
              <a:xfrm>
                <a:off x="3071520" y="4352400"/>
                <a:ext cx="14212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l, </a:t>
                </a: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, 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l</a:t>
                </a: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57"/>
              <p:cNvSpPr/>
              <p:nvPr/>
            </p:nvSpPr>
            <p:spPr>
              <a:xfrm>
                <a:off x="3025800" y="4352400"/>
                <a:ext cx="1513080" cy="100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58"/>
            <p:cNvGrpSpPr/>
            <p:nvPr/>
          </p:nvGrpSpPr>
          <p:grpSpPr>
            <a:xfrm>
              <a:off x="4539600" y="4352400"/>
              <a:ext cx="4084560" cy="1008720"/>
              <a:chOff x="4539600" y="4352400"/>
              <a:chExt cx="4084560" cy="1008720"/>
            </a:xfrm>
          </p:grpSpPr>
          <p:sp>
            <p:nvSpPr>
              <p:cNvPr id="113" name="Rectangle 59"/>
              <p:cNvSpPr/>
              <p:nvPr/>
            </p:nvSpPr>
            <p:spPr>
              <a:xfrm>
                <a:off x="4585320" y="4352400"/>
                <a:ext cx="399312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дређуј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вредност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магнетног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момент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пољ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ој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ј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последиц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ретањ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лектрона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60"/>
              <p:cNvSpPr/>
              <p:nvPr/>
            </p:nvSpPr>
            <p:spPr>
              <a:xfrm>
                <a:off x="4539600" y="4352400"/>
                <a:ext cx="4084560" cy="1008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61"/>
            <p:cNvGrpSpPr/>
            <p:nvPr/>
          </p:nvGrpSpPr>
          <p:grpSpPr>
            <a:xfrm>
              <a:off x="395280" y="5361480"/>
              <a:ext cx="1118160" cy="1008360"/>
              <a:chOff x="395280" y="5361480"/>
              <a:chExt cx="1118160" cy="1008360"/>
            </a:xfrm>
          </p:grpSpPr>
          <p:sp>
            <p:nvSpPr>
              <p:cNvPr id="116" name="Rectangle 62"/>
              <p:cNvSpPr/>
              <p:nvPr/>
            </p:nvSpPr>
            <p:spPr>
              <a:xfrm>
                <a:off x="441000" y="5361480"/>
                <a:ext cx="10263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VE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</a:t>
                </a:r>
                <a:r>
                  <a:rPr b="1" i="1" lang="es-VE" sz="2400" spc="-1" strike="noStrike" baseline="-30000">
                    <a:solidFill>
                      <a:srgbClr val="000000"/>
                    </a:solidFill>
                    <a:latin typeface="Times New Roman"/>
                    <a:ea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63"/>
              <p:cNvSpPr/>
              <p:nvPr/>
            </p:nvSpPr>
            <p:spPr>
              <a:xfrm>
                <a:off x="395280" y="5361480"/>
                <a:ext cx="1118160" cy="100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64"/>
            <p:cNvGrpSpPr/>
            <p:nvPr/>
          </p:nvGrpSpPr>
          <p:grpSpPr>
            <a:xfrm>
              <a:off x="1513800" y="5361480"/>
              <a:ext cx="1511280" cy="1008360"/>
              <a:chOff x="1513800" y="5361480"/>
              <a:chExt cx="1511280" cy="1008360"/>
            </a:xfrm>
          </p:grpSpPr>
          <p:sp>
            <p:nvSpPr>
              <p:cNvPr id="119" name="Rectangle 65"/>
              <p:cNvSpPr/>
              <p:nvPr/>
            </p:nvSpPr>
            <p:spPr>
              <a:xfrm>
                <a:off x="1559520" y="5361480"/>
                <a:ext cx="14194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Спинск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квант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број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66"/>
              <p:cNvSpPr/>
              <p:nvPr/>
            </p:nvSpPr>
            <p:spPr>
              <a:xfrm>
                <a:off x="1513800" y="5361480"/>
                <a:ext cx="1511280" cy="100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67"/>
            <p:cNvGrpSpPr/>
            <p:nvPr/>
          </p:nvGrpSpPr>
          <p:grpSpPr>
            <a:xfrm>
              <a:off x="3025800" y="5361480"/>
              <a:ext cx="1513080" cy="1008360"/>
              <a:chOff x="3025800" y="5361480"/>
              <a:chExt cx="1513080" cy="1008360"/>
            </a:xfrm>
          </p:grpSpPr>
          <p:sp>
            <p:nvSpPr>
              <p:cNvPr id="122" name="Rectangle 68"/>
              <p:cNvSpPr/>
              <p:nvPr/>
            </p:nvSpPr>
            <p:spPr>
              <a:xfrm>
                <a:off x="3071520" y="5361480"/>
                <a:ext cx="14212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±</a:t>
                </a:r>
                <a:r>
                  <a:rPr b="0" lang="es-VE" sz="16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1/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69"/>
              <p:cNvSpPr/>
              <p:nvPr/>
            </p:nvSpPr>
            <p:spPr>
              <a:xfrm>
                <a:off x="3025800" y="5361480"/>
                <a:ext cx="1513080" cy="100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70"/>
            <p:cNvGrpSpPr/>
            <p:nvPr/>
          </p:nvGrpSpPr>
          <p:grpSpPr>
            <a:xfrm>
              <a:off x="4539600" y="5361480"/>
              <a:ext cx="4084560" cy="1008360"/>
              <a:chOff x="4539600" y="5361480"/>
              <a:chExt cx="4084560" cy="1008360"/>
            </a:xfrm>
          </p:grpSpPr>
          <p:sp>
            <p:nvSpPr>
              <p:cNvPr id="125" name="Rectangle 71"/>
              <p:cNvSpPr/>
              <p:nvPr/>
            </p:nvSpPr>
            <p:spPr>
              <a:xfrm>
                <a:off x="4585320" y="5361480"/>
                <a:ext cx="3993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дређуј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ангулар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(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магнетни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моменат</a:t>
                </a:r>
                <a:r>
                  <a:rPr b="0" i="1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лектрон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условљен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ретањем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електрона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ко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сопствене</a:t>
                </a:r>
                <a:r>
                  <a:rPr b="0" lang="sr-Latn-C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осе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72"/>
              <p:cNvSpPr/>
              <p:nvPr/>
            </p:nvSpPr>
            <p:spPr>
              <a:xfrm>
                <a:off x="4539600" y="5361480"/>
                <a:ext cx="4084560" cy="100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ul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јев принцип искљу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или више електрона у једном атому не могу бити у истом квантном стању, тј. не могу имати сва четири квантна броја идентична, већ се морају разликовати бар по једном од ових бројева. У свакој орбитали може бити један или максимално два електр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два електрона у једном атому испуњавају орбиталу, њихови спинови морају бити супротни (антипаралелни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електронског изграђивања периодног система елемената. Ред испуњавања разних орбитала одређен је углавном енергетским условима, при чему ће електрон улазити у ону непопуњену орбитлу која је везана за најнижу енерг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und-овo правило максималног мултиплицит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уњавање еквивалентних р-орбитала врши се на тај начин што свака од три 2р-орбитале прима најмање по један електрон, и то паралелног спина, па се тек уласком четвртог електрона, који се мора сместити у једну од већ делимично испуњених 2р-орбитала, образује први електронски пар (дублет) у 2р-подслоју (то вази и за еквивалентне орбитале ма ког подслоја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093080" y="765000"/>
            <a:ext cx="503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dcterms:modified xsi:type="dcterms:W3CDTF">2017-08-29T13:29:03Z</dcterms:modified>
  <cp:revision>445</cp:revision>
  <dc:subject/>
  <dc:title>Slide 1</dc:title>
</cp:coreProperties>
</file>